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D0D0-D21A-460A-9D6A-12A2644E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B4C3-1FE0-44EA-A717-93AC7D96C9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endel allowed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lants to reproduce by self-pollination, the traits controlled by recessive alleles reappeared in about one fourth of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lants in each cro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6AA-0B49-4F77-A66C-97D678A6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08E-30C9-475D-90FD-E5606462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340-EA2E-4530-93E2-4DEB7A5D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4E9-96FC-4B3C-90CF-33FC9705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8F6C-BEC6-4AA8-B06A-6C4CA3D3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9627-8DBE-4057-95A6-AF5299D3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EDC1-F448-4EC7-8344-8000B30E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E711-B8B1-4FD3-A4EE-7256D444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83F8-B98B-4B58-A3B3-8D6E4976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723E-2C31-4167-A806-308D991A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258A-C0E5-49D2-BEE0-53A81ADF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847-ECD7-43D2-AEC9-E6B13E4F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271C-7CCE-413B-BC44-D10A502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068E-CE0B-4A7C-B4DF-F77CB81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D675-306A-4286-8277-EA6816E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DB7C-0219-4CCA-A93C-B05ABA74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058-DD7A-4CFF-B811-42C60556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2ECD-A4D9-43FC-A220-2BFC0875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C8CE-928D-4D18-8BD2-21383BD1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1290-48CF-4C3B-835D-DDA063C2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9B44-ABE0-4031-9963-3167BCD2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EF76-2937-49B8-AE0C-3F037854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A57-8043-4BB3-81B4-7AB04CB6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FF34-360F-4885-AD3A-74F0E6B1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4C65-5C42-4CEE-9012-688385D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42AB-A7DF-4CAC-984F-C8DB42D6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17A8-FA2B-4004-9622-321010A7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6245-468E-4D59-8932-FB562B80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804A-B707-414F-9A8B-B6F00489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4F1E-BB82-4EF0-BA3C-6F260830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ACAC-CB04-4CFC-8267-53FD06E3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B8C2-63D4-40F1-A975-07496344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FD0B-B6D0-47E7-891E-64D1717B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E73-F2CB-46CD-A26D-9BF02A66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C7FB-A501-444C-9B09-9534D96B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A549-6165-489C-994A-35EC4B10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4F29-C56C-43E5-8533-2318654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71CC-4569-46C7-9CFD-B8655B96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F863-C0C6-4DBC-BB8D-EE90ECD8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CA003-D851-4BF3-8E6A-A934EC1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5738-132B-4956-A01E-0F947BEC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BF410-48DC-4CE6-BC7A-CC3D2F21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B4C92-18F4-48EA-A96B-34F77673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F5F9-2FDF-4372-B686-57BF6DE6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E9C-F894-41B5-BDAE-7BB1C112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805E0-D098-4F11-B329-044A8FEA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54E1-3A1D-4D75-98A6-2CBFC5DF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F767B-4076-4A14-A960-4A652906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A2F9B-3FDD-461B-B3D1-00E89EA5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599B5-A2EA-42FD-B6B7-6024379B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1734A-A208-41EF-B555-868F3458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00248-D86A-435C-92F2-5A0C9913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435A6-7A16-4A1C-9248-0FBAD426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CB350-7F78-4892-9FCB-79413E6B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7FC4-C513-4113-BF6E-8C738E01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B09-0187-4BCF-BC40-B31A31B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3FFD4-17E9-42E2-93A9-4F28BF9F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19022-3143-4CAC-AAA7-FD7404C3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D16C0-24CB-4637-91FC-8F460989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80737-6BEA-440E-89FD-36D9DEAF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C6CD3-DF7F-4F53-9979-303AAD67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F8D2D-C974-470C-A992-26A9070B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FA6F-FA11-47C9-8098-C9DFAC5E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3872-706D-47B5-BC87-00A2A7BD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56110-B474-4D0F-9673-47F43234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0F34E-5379-470E-BFAE-05628C7B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15B-6278-49C8-8A68-BEBFC14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64EDD-DF80-4BE8-8137-33FFFE6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85CC7-4088-4321-8A58-2DC99A46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46CF-5B53-419E-A64A-4AA8EAE6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8D429-8E36-447A-A996-AD551E98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A6594-5541-4967-BBE7-75139EF8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02EAE-99AF-4E5E-80F4-B4469930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4D9B7-F360-4482-9F15-356AF1D4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826F4-3A53-4EDE-84A2-FBE33D49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FE8C7-5796-46EA-ACC1-E7D62131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AE0F7-C047-4E7D-BE6C-805E92B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CB4-BA6E-45B0-AA71-E99036BA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4BB3C-642D-4836-934B-9AFB6082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AE846-90AE-426C-948F-492D094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124B-65C1-4E18-BB69-AAAFAAA2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FAFC9-B4D7-4058-B1F0-D5055FAB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6D637-A6F8-4A9A-8E79-353B9FDC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1DDF5-D295-47DB-A7CD-63AE90B4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FB2EB-3311-40B4-8C4C-A7F7B7DC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FADC3-C291-4F74-944D-A08163E2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E54FE-1170-4D82-97FB-AE9A2E12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97838-E475-466F-951D-B856DB2B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574-0F99-4572-BE93-E1448092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18300-86DF-451D-B371-AD7600B8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4B7D4-F3AA-414B-B9B8-4E2AACF4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6A5B0-6CB1-4BE8-AEE1-C35C984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22266-ACED-4FBC-A100-2141C09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87250-DB37-4E95-A227-10C91A3F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7F0DE-8F04-4A94-914A-C932E2C7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FFCDC-2933-49E5-928B-17653202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1949-486D-4E54-B1D1-02B82978DBB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C07A-2C28-4C5C-BD52-F6BF94A7825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0CFF-FD5C-4AAA-87B2-EF52D985AC6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F354-72B9-4D65-8855-9A89D77D4BD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6331-E7F0-49B8-854B-7995AF7FD3D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4696-1CDE-443F-8496-23904EEEE62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D897-5DEC-46E9-BAF5-862B9A79032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17D8-E164-48D7-BE25-AB111AEE40D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tretch/>
        </p:blipFill>
        <p:spPr>
          <a:xfrm>
            <a:off x="6705720" y="304920"/>
            <a:ext cx="190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inciple of dominance states tha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me alleles are dominant and others are recess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rganism with a dominant allele or trait will always exhibit that 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rganism with the recessive allele will exhibit that form only when the dominant allele is not pres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crossed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neration with itself to produce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second filial)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ts controlled by recessive alleles reappeared in one fourth of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l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opyright Pearson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's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4" descr="sb4058f1"/>
          <p:cNvPicPr/>
          <p:nvPr/>
        </p:nvPicPr>
        <p:blipFill>
          <a:blip r:embed="rId1"/>
          <a:stretch/>
        </p:blipFill>
        <p:spPr>
          <a:xfrm>
            <a:off x="282600" y="1838160"/>
            <a:ext cx="8407440" cy="37213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5"/>
          <p:cNvSpPr/>
          <p:nvPr/>
        </p:nvSpPr>
        <p:spPr>
          <a:xfrm>
            <a:off x="762120" y="5308560"/>
            <a:ext cx="76705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73280" y="1920960"/>
            <a:ext cx="133344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2917800" y="1811160"/>
            <a:ext cx="156672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641520" y="5356080"/>
            <a:ext cx="81108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2751120" y="5334120"/>
            <a:ext cx="83016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3646440" y="5369040"/>
            <a:ext cx="8114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4923000" y="5330880"/>
            <a:ext cx="849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5842080" y="5311800"/>
            <a:ext cx="887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6751800" y="5311800"/>
            <a:ext cx="8301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1571760" y="5369040"/>
            <a:ext cx="81108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7629480" y="5343480"/>
            <a:ext cx="81108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3"/>
          <p:cNvSpPr/>
          <p:nvPr/>
        </p:nvSpPr>
        <p:spPr>
          <a:xfrm>
            <a:off x="2057400" y="1752480"/>
            <a:ext cx="2684520" cy="309096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3090960"/>
              <a:gd name="textAreaBottom" fmla="*/ 3091320 h 3090960"/>
            </a:gdLst>
            <a:ahLst/>
            <a:rect l="textAreaLeft" t="textAreaTop" r="textAreaRight" b="textAreaBottom"/>
            <a:pathLst>
              <a:path w="1637" h="1947">
                <a:moveTo>
                  <a:pt x="558" y="82"/>
                </a:moveTo>
                <a:lnTo>
                  <a:pt x="384" y="283"/>
                </a:lnTo>
                <a:lnTo>
                  <a:pt x="348" y="521"/>
                </a:lnTo>
                <a:lnTo>
                  <a:pt x="266" y="951"/>
                </a:lnTo>
                <a:lnTo>
                  <a:pt x="183" y="1344"/>
                </a:lnTo>
                <a:lnTo>
                  <a:pt x="128" y="1481"/>
                </a:lnTo>
                <a:lnTo>
                  <a:pt x="0" y="1481"/>
                </a:lnTo>
                <a:lnTo>
                  <a:pt x="92" y="1573"/>
                </a:lnTo>
                <a:lnTo>
                  <a:pt x="238" y="1582"/>
                </a:lnTo>
                <a:lnTo>
                  <a:pt x="320" y="1719"/>
                </a:lnTo>
                <a:lnTo>
                  <a:pt x="394" y="1774"/>
                </a:lnTo>
                <a:lnTo>
                  <a:pt x="384" y="1883"/>
                </a:lnTo>
                <a:lnTo>
                  <a:pt x="494" y="1920"/>
                </a:lnTo>
                <a:lnTo>
                  <a:pt x="650" y="1938"/>
                </a:lnTo>
                <a:lnTo>
                  <a:pt x="851" y="1938"/>
                </a:lnTo>
                <a:lnTo>
                  <a:pt x="997" y="1947"/>
                </a:lnTo>
                <a:lnTo>
                  <a:pt x="1143" y="1938"/>
                </a:lnTo>
                <a:lnTo>
                  <a:pt x="1235" y="1947"/>
                </a:lnTo>
                <a:lnTo>
                  <a:pt x="1299" y="1947"/>
                </a:lnTo>
                <a:lnTo>
                  <a:pt x="1372" y="1947"/>
                </a:lnTo>
                <a:lnTo>
                  <a:pt x="1454" y="1902"/>
                </a:lnTo>
                <a:lnTo>
                  <a:pt x="1573" y="1893"/>
                </a:lnTo>
                <a:lnTo>
                  <a:pt x="1573" y="1765"/>
                </a:lnTo>
                <a:lnTo>
                  <a:pt x="1509" y="1627"/>
                </a:lnTo>
                <a:lnTo>
                  <a:pt x="1500" y="1554"/>
                </a:lnTo>
                <a:lnTo>
                  <a:pt x="1463" y="1499"/>
                </a:lnTo>
                <a:lnTo>
                  <a:pt x="1463" y="1399"/>
                </a:lnTo>
                <a:lnTo>
                  <a:pt x="1518" y="1289"/>
                </a:lnTo>
                <a:lnTo>
                  <a:pt x="1564" y="1125"/>
                </a:lnTo>
                <a:lnTo>
                  <a:pt x="1509" y="677"/>
                </a:lnTo>
                <a:lnTo>
                  <a:pt x="1573" y="338"/>
                </a:lnTo>
                <a:lnTo>
                  <a:pt x="1637" y="82"/>
                </a:lnTo>
                <a:lnTo>
                  <a:pt x="1107" y="0"/>
                </a:lnTo>
                <a:lnTo>
                  <a:pt x="558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6"/>
          <p:cNvSpPr/>
          <p:nvPr/>
        </p:nvSpPr>
        <p:spPr>
          <a:xfrm>
            <a:off x="5892840" y="1892160"/>
            <a:ext cx="1485720" cy="30492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20" h="184">
                <a:moveTo>
                  <a:pt x="56" y="0"/>
                </a:moveTo>
                <a:lnTo>
                  <a:pt x="920" y="24"/>
                </a:lnTo>
                <a:lnTo>
                  <a:pt x="832" y="152"/>
                </a:lnTo>
                <a:lnTo>
                  <a:pt x="520" y="184"/>
                </a:lnTo>
                <a:lnTo>
                  <a:pt x="104" y="184"/>
                </a:lnTo>
                <a:lnTo>
                  <a:pt x="0" y="104"/>
                </a:lnTo>
                <a:lnTo>
                  <a:pt x="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5800680" y="1776240"/>
            <a:ext cx="15224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4"/>
          <p:cNvSpPr/>
          <p:nvPr/>
        </p:nvSpPr>
        <p:spPr>
          <a:xfrm>
            <a:off x="4395960" y="1490760"/>
            <a:ext cx="4238280" cy="3286080"/>
          </a:xfrm>
          <a:custGeom>
            <a:avLst/>
            <a:gdLst>
              <a:gd name="textAreaLeft" fmla="*/ 0 w 4238280"/>
              <a:gd name="textAreaRight" fmla="*/ 4238640 w 4238280"/>
              <a:gd name="textAreaTop" fmla="*/ 0 h 3286080"/>
              <a:gd name="textAreaBottom" fmla="*/ 3286440 h 3286080"/>
            </a:gdLst>
            <a:ahLst/>
            <a:rect l="textAreaLeft" t="textAreaTop" r="textAreaRight" b="textAreaBottom"/>
            <a:pathLst>
              <a:path w="2670" h="2076">
                <a:moveTo>
                  <a:pt x="54" y="1632"/>
                </a:moveTo>
                <a:lnTo>
                  <a:pt x="0" y="1620"/>
                </a:lnTo>
                <a:lnTo>
                  <a:pt x="30" y="1578"/>
                </a:lnTo>
                <a:lnTo>
                  <a:pt x="144" y="1578"/>
                </a:lnTo>
                <a:lnTo>
                  <a:pt x="276" y="1560"/>
                </a:lnTo>
                <a:lnTo>
                  <a:pt x="270" y="1470"/>
                </a:lnTo>
                <a:lnTo>
                  <a:pt x="240" y="1350"/>
                </a:lnTo>
                <a:lnTo>
                  <a:pt x="240" y="1194"/>
                </a:lnTo>
                <a:lnTo>
                  <a:pt x="258" y="1032"/>
                </a:lnTo>
                <a:lnTo>
                  <a:pt x="264" y="882"/>
                </a:lnTo>
                <a:lnTo>
                  <a:pt x="264" y="774"/>
                </a:lnTo>
                <a:lnTo>
                  <a:pt x="342" y="546"/>
                </a:lnTo>
                <a:lnTo>
                  <a:pt x="444" y="366"/>
                </a:lnTo>
                <a:lnTo>
                  <a:pt x="660" y="318"/>
                </a:lnTo>
                <a:lnTo>
                  <a:pt x="798" y="252"/>
                </a:lnTo>
                <a:lnTo>
                  <a:pt x="858" y="54"/>
                </a:lnTo>
                <a:lnTo>
                  <a:pt x="1260" y="0"/>
                </a:lnTo>
                <a:lnTo>
                  <a:pt x="2250" y="114"/>
                </a:lnTo>
                <a:lnTo>
                  <a:pt x="2124" y="540"/>
                </a:lnTo>
                <a:lnTo>
                  <a:pt x="2382" y="864"/>
                </a:lnTo>
                <a:lnTo>
                  <a:pt x="2646" y="1188"/>
                </a:lnTo>
                <a:lnTo>
                  <a:pt x="2670" y="1716"/>
                </a:lnTo>
                <a:lnTo>
                  <a:pt x="2526" y="1968"/>
                </a:lnTo>
                <a:lnTo>
                  <a:pt x="2286" y="2046"/>
                </a:lnTo>
                <a:lnTo>
                  <a:pt x="2202" y="2058"/>
                </a:lnTo>
                <a:lnTo>
                  <a:pt x="2130" y="2058"/>
                </a:lnTo>
                <a:lnTo>
                  <a:pt x="2088" y="2052"/>
                </a:lnTo>
                <a:lnTo>
                  <a:pt x="2016" y="2070"/>
                </a:lnTo>
                <a:lnTo>
                  <a:pt x="1962" y="2076"/>
                </a:lnTo>
                <a:lnTo>
                  <a:pt x="1884" y="2040"/>
                </a:lnTo>
                <a:lnTo>
                  <a:pt x="1842" y="2040"/>
                </a:lnTo>
                <a:lnTo>
                  <a:pt x="1806" y="2040"/>
                </a:lnTo>
                <a:lnTo>
                  <a:pt x="1764" y="2040"/>
                </a:lnTo>
                <a:lnTo>
                  <a:pt x="1728" y="2046"/>
                </a:lnTo>
                <a:lnTo>
                  <a:pt x="1590" y="2040"/>
                </a:lnTo>
                <a:lnTo>
                  <a:pt x="1482" y="2058"/>
                </a:lnTo>
                <a:lnTo>
                  <a:pt x="1428" y="2034"/>
                </a:lnTo>
                <a:lnTo>
                  <a:pt x="1386" y="2052"/>
                </a:lnTo>
                <a:lnTo>
                  <a:pt x="1338" y="2046"/>
                </a:lnTo>
                <a:lnTo>
                  <a:pt x="1200" y="2028"/>
                </a:lnTo>
                <a:lnTo>
                  <a:pt x="1122" y="2028"/>
                </a:lnTo>
                <a:cubicBezTo>
                  <a:pt x="1040" y="2034"/>
                  <a:pt x="1067" y="2046"/>
                  <a:pt x="1032" y="2028"/>
                </a:cubicBezTo>
                <a:lnTo>
                  <a:pt x="846" y="2028"/>
                </a:lnTo>
                <a:lnTo>
                  <a:pt x="498" y="2046"/>
                </a:lnTo>
                <a:lnTo>
                  <a:pt x="432" y="2028"/>
                </a:lnTo>
                <a:lnTo>
                  <a:pt x="336" y="1986"/>
                </a:lnTo>
                <a:lnTo>
                  <a:pt x="258" y="1938"/>
                </a:lnTo>
                <a:lnTo>
                  <a:pt x="180" y="1818"/>
                </a:lnTo>
                <a:lnTo>
                  <a:pt x="114" y="1734"/>
                </a:lnTo>
                <a:lnTo>
                  <a:pt x="54" y="16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5776920" y="-442800"/>
            <a:ext cx="407664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assumed that a dominant allele had masked the corresponding recessive allele in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t controlled by the recessive allele showed up in some of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l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appearance of the trait controlled by the recessive allele indicated that at some point the allele for shortness had been separated, o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egregat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from the allele for tall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each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lant flowers and produces gametes, the two alleles segregate from each other so that each gamete carries only a single copy of each g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fore, each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lant produces two types of gamet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—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se with the allele for tallness, and those with the allele for short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eles separate during gamete 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4" descr="sb4059f1"/>
          <p:cNvPicPr/>
          <p:nvPr/>
        </p:nvPicPr>
        <p:blipFill>
          <a:blip r:embed="rId1"/>
          <a:stretch/>
        </p:blipFill>
        <p:spPr>
          <a:xfrm>
            <a:off x="1981080" y="1219320"/>
            <a:ext cx="5526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strian monk in the mid-1800’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nt two years studying in the University of Vien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s heavily influenced by two professors, one of whom was Christian Doppl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years were important since he learned about the scientific meth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an breeding pea plants t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eat choice as they had many varieties, and had a short generation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609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articular, he focused on inheri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variances found within the pea plants are called charac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variant on this character is a trai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could control ma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roductive organs are in the flowers, and each plant has both p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llen produced in stame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ggs produced in carp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hieved cross-pollination by removing immature stamens from one plant, then transferred sperm-bearing pollen from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ygote develops into plant embryo encased in a pe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tracked characteristics that had only two variations (such as colou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used plants that, over many generations of self pollination, produced the same colo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these true-bree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studied seven pea plant characters, each with two contrasting tra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crossed plants with each of the seven contrasting characters and studied their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original pair of plants is the P (parental)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ffspring are called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“first filial,”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ffspring of crosses between parents with different traits are called hybr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ybrid plants all had the trait of only one of the par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0"/>
          <p:cNvSpPr/>
          <p:nvPr/>
        </p:nvSpPr>
        <p:spPr>
          <a:xfrm>
            <a:off x="1371600" y="533520"/>
            <a:ext cx="7456320" cy="405720"/>
          </a:xfrm>
          <a:prstGeom prst="rect">
            <a:avLst/>
          </a:prstGeom>
          <a:solidFill>
            <a:srgbClr val="4689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ndel’s F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rosses on Pea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's first conclusion was that biological inheritance is determined by factors that are passed from one generation to the nex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day, scientists call the factors that determine characteristics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of the characters Mendel studied was controlled by one gene that occurred in two contrasting forms that produced different characters for each tra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ifferent forms of a gene are called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’s second conclusion is called the principle of domin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0:36:19Z</dcterms:created>
  <dc:creator>ED18</dc:creator>
  <dc:description/>
  <dc:language>en-US</dc:language>
  <cp:lastModifiedBy>ED18</cp:lastModifiedBy>
  <dcterms:modified xsi:type="dcterms:W3CDTF">2011-11-08T02:49:14Z</dcterms:modified>
  <cp:revision>5</cp:revision>
  <dc:subject/>
  <dc:title>Genetics</dc:title>
</cp:coreProperties>
</file>